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038-E6D8-4210-8747-02CF7ED7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DB0-25AF-4CDC-B112-18D1C09C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6C1-8A7E-4F8C-9A07-349C6976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DC6D-3DD6-4015-94F3-F5BC0C3D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0FE-3FC5-4634-A5A8-541D0B5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64C-9924-4285-A9B5-848C282F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FE9-1807-4BD7-B420-8E10C486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E5A-01E5-4C9C-BBA4-2F7851E6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A9D-6575-4B3A-AB40-1205713D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018-5777-4745-90E5-27FB184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646-E90D-4EA1-BE44-585E3FEB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07E5-3D62-4C23-9E36-22EC7B14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DE5B-A14F-42B4-B481-23599D2F7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christianfly.com/upload/ice_cube.jpg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neiu.edu/~ncaftori/falls/rainbow-again.jp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sfheart.com/images/rainbow.jp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www.eu-greenlight.org/Competition/Pictures/Designers/Lamp.jpg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xcaliburelectronics.com/images/public_relations/flashlight.jpg" TargetMode="External"/><Relationship Id="rId3" Type="http://schemas.openxmlformats.org/officeDocument/2006/relationships/image" Target="../media/image11.jpeg"/><Relationship Id="rId4" Type="http://schemas.openxmlformats.org/officeDocument/2006/relationships/hyperlink" Target="http://gw.marketingden.com/planets/images/fullsize/thesun.jpg" TargetMode="External"/><Relationship Id="rId5" Type="http://schemas.openxmlformats.org/officeDocument/2006/relationships/image" Target="../media/image12.jpeg"/><Relationship Id="rId6" Type="http://schemas.openxmlformats.org/officeDocument/2006/relationships/hyperlink" Target="http://pinker.wjh.harvard.edu/photos/cape_cod_II/images/sun%20setting%20over%20Pilgrim%20Monument.jpg" TargetMode="External"/><Relationship Id="rId7" Type="http://schemas.openxmlformats.org/officeDocument/2006/relationships/image" Target="../media/image13.jpeg"/><Relationship Id="rId8" Type="http://schemas.openxmlformats.org/officeDocument/2006/relationships/hyperlink" Target="http://astro.uchicago.edu/cara/vtour/pole/dome/life/sun/marequinox2.jpg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www.thecoss.co.uk/Gas%20Stove.JPG" TargetMode="External"/><Relationship Id="rId11" Type="http://schemas.openxmlformats.org/officeDocument/2006/relationships/image" Target="../media/image15.jpeg"/><Relationship Id="rId12" Type="http://schemas.openxmlformats.org/officeDocument/2006/relationships/hyperlink" Target="http://dubie.morpheus.net/pictures/Dinner_Greer_MissyB/stove.JPG" TargetMode="External"/><Relationship Id="rId13" Type="http://schemas.openxmlformats.org/officeDocument/2006/relationships/image" Target="../media/image16.jpeg"/><Relationship Id="rId14" Type="http://schemas.openxmlformats.org/officeDocument/2006/relationships/hyperlink" Target="http://www.photo.net/photo/pcd0801/ge-cooking-burger-38.4.jpg" TargetMode="External"/><Relationship Id="rId15" Type="http://schemas.openxmlformats.org/officeDocument/2006/relationships/image" Target="../media/image17.jpe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ireplaceWithFir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www.heidiandstew.com/Izzy&apos;s%20Pictures%20Link/JPG%20files/izzy%20singing%20at%20the%20piano.jpe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ww.mccullagh.org/db9/1ds2-2/ear-closeup.jpg" TargetMode="External"/><Relationship Id="rId7" Type="http://schemas.openxmlformats.org/officeDocument/2006/relationships/image" Target="../media/image21.jpeg"/><Relationship Id="rId8" Type="http://schemas.openxmlformats.org/officeDocument/2006/relationships/hyperlink" Target="http://stillburning.com/thephotos/electricity.jpg" TargetMode="External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benesense.com/images/LightBulb.jpg" TargetMode="External"/><Relationship Id="rId3" Type="http://schemas.openxmlformats.org/officeDocument/2006/relationships/image" Target="../media/image24.jpeg"/><Relationship Id="rId4" Type="http://schemas.openxmlformats.org/officeDocument/2006/relationships/hyperlink" Target="http://en.wikipedia.org/wiki/Image:Lightning_in_Arlington.jpg" TargetMode="External"/><Relationship Id="rId5" Type="http://schemas.openxmlformats.org/officeDocument/2006/relationships/image" Target="../media/image25.jpeg"/><Relationship Id="rId6" Type="http://schemas.openxmlformats.org/officeDocument/2006/relationships/hyperlink" Target="http://www.wisinfo.com/newsherald/photogallery/fire/images/Wires%20spark.jpg" TargetMode="External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s.cornell.edu/People/egs/magnetos/pics/magnet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hyperlink" Target="http://www.chu.cam.ac.uk/~JRS47/switch.jpg" TargetMode="External"/><Relationship Id="rId5" Type="http://schemas.openxmlformats.org/officeDocument/2006/relationships/image" Target="../media/image30.jpeg"/><Relationship Id="rId6" Type="http://schemas.openxmlformats.org/officeDocument/2006/relationships/hyperlink" Target="http://www.chemcraftind.com/images/electric_cord.jpg" TargetMode="External"/><Relationship Id="rId7" Type="http://schemas.openxmlformats.org/officeDocument/2006/relationships/image" Target="../media/image31.jpeg"/><Relationship Id="rId8" Type="http://schemas.openxmlformats.org/officeDocument/2006/relationships/hyperlink" Target="http://www.dakotaelectric.com/images/plug.jpg" TargetMode="External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ura.speedera.net/ccimg.catalogcity.com/210000/213000/213050/Products/7686431.jpg" TargetMode="External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19160" cy="2030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4120" y="3505320"/>
            <a:ext cx="2057400" cy="1901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609480" y="304920"/>
            <a:ext cx="2629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21948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91320" y="380880"/>
            <a:ext cx="2209680" cy="3009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809880"/>
            <a:ext cx="2057400" cy="15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2680" y="3581280"/>
            <a:ext cx="2286000" cy="1755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53080" y="3809880"/>
            <a:ext cx="1752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Table Lamp"/>
          <p:cNvPicPr/>
          <p:nvPr/>
        </p:nvPicPr>
        <p:blipFill>
          <a:blip r:embed="rId1"/>
          <a:stretch/>
        </p:blipFill>
        <p:spPr>
          <a:xfrm>
            <a:off x="609480" y="457200"/>
            <a:ext cx="141948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2819520"/>
            <a:ext cx="175248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6688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762120"/>
            <a:ext cx="2209680" cy="1473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666880" y="2971800"/>
            <a:ext cx="1905120" cy="1415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81480" y="2666880"/>
            <a:ext cx="2514600" cy="1881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09480" y="4724280"/>
            <a:ext cx="2514600" cy="188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038480" y="4876920"/>
            <a:ext cx="25909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A natural gas fireplace with a burning fir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685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9880" y="609480"/>
            <a:ext cx="3610080" cy="274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3276720"/>
            <a:ext cx="2895840" cy="191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86200" y="3809880"/>
            <a:ext cx="121284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3886200"/>
            <a:ext cx="24382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159000" cy="3500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91120" y="609480"/>
            <a:ext cx="17269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Lightning over Pentagon City in Arlington County, Virgini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4114800"/>
            <a:ext cx="2457720" cy="2219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77120" y="609480"/>
            <a:ext cx="194616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Electronic Circut Board"/>
          <p:cNvPicPr/>
          <p:nvPr/>
        </p:nvPicPr>
        <p:blipFill>
          <a:blip r:embed="rId8"/>
          <a:stretch/>
        </p:blipFill>
        <p:spPr>
          <a:xfrm>
            <a:off x="1295280" y="4352760"/>
            <a:ext cx="30481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76720" y="609480"/>
            <a:ext cx="3809880" cy="275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2971800"/>
            <a:ext cx="175248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8120" y="3429000"/>
            <a:ext cx="2361960" cy="1738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5880" y="3657600"/>
            <a:ext cx="1667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685800"/>
            <a:ext cx="2743200" cy="2050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91120" y="685800"/>
            <a:ext cx="1728720" cy="2438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22240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962520" y="3733920"/>
            <a:ext cx="2209680" cy="182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477120" y="609480"/>
            <a:ext cx="19810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08:49Z</dcterms:created>
  <dc:creator>Judi</dc:creator>
  <dc:description/>
  <dc:language>en-US</dc:language>
  <cp:lastModifiedBy>Judith M Paradis</cp:lastModifiedBy>
  <dcterms:modified xsi:type="dcterms:W3CDTF">2007-12-20T20:16:18Z</dcterms:modified>
  <cp:revision>8</cp:revision>
  <dc:subject/>
  <dc:title>Slide 1</dc:title>
</cp:coreProperties>
</file>